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160-1B9C-4A48-9FFA-330B9A53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B4E-82FF-4D15-AE52-10602C4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0B5-C1BF-4927-BB97-6441C126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FDB-F39E-4631-B24B-DBAE52C5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82E-1807-4F1E-B182-3781D2C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851-080D-4EC8-BFCB-341D6BF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763-AEB6-447D-9111-2D618AB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E3C-70DC-4AA1-B9BC-1AB6203F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BEE-7622-461C-A242-3D3DB02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3DF-728F-49AA-8C42-AB3CCBF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1F5-CA58-4654-ADF5-370A9DB6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408-3960-41DC-B961-962B092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ABC8-3019-4464-BBD5-4A3D555F1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Match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876560" cy="63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5638680"/>
            <a:ext cx="1371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10516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32:58Z</dcterms:modified>
  <cp:revision>43</cp:revision>
  <dc:subject/>
  <dc:title>PowerPoint Presentation</dc:title>
</cp:coreProperties>
</file>